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a4b3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C9A4-7D91-4699-B3FB-A27635F0C80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去除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模板上的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无忧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整理发布的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首先打开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模板，选择视图，然后选择幻灯片母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然后再在幻灯片母版视图中点击“无忧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整理发布”的文字文本框，删除，保存即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更多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模板资源，请访问无忧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网站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www.51ppt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使用时删除本备注即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此幻灯片插入到演示文稿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此模板作为演示文稿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pp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文件）保存到计算机上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将包含该图像幻灯片的演示文稿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“幻灯片”选项卡上，将插入点置于将位于该图像幻灯片之前的幻灯片之后。（确保不要选择幻灯片。插入点应位于幻灯片之间。）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“插入”菜单上，单击“幻灯片（从文件）”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“幻灯片搜索器”对话框中，单击“搜索演示文稿”选项卡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单击“浏览”，找到并选择包含该图像幻灯片的演示文稿，然后单击“打开”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“幻灯片（从文件）”对话框中，选择该图像幻灯片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选中“保留源格式”复选框。如果不选中此复选框，复制的幻灯片将继承在演示文稿中位于它之前的幻灯片的设计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单击“插入”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单击“关闭”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9A10-6C46-4C62-90AE-E3D98B9B2EC5}" type="slidenum">
              <a:rPr b="0" lang="zh-CN" sz="1200" spc="-1" strike="noStrike">
                <a:solidFill>
                  <a:srgbClr val="5a4b3c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5a4b3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F28-2CD9-42E2-9D7D-6A8CD6CA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72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880" y="3802320"/>
            <a:ext cx="72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456-15D3-4680-9FAE-CFA4D613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880" y="38023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87280" y="38023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E59-1293-4ACB-9D34-D6329328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1160" y="12949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77440" y="12949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880" y="38023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1160" y="38023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77440" y="38023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086-2A04-4A20-A0E2-DDB1233F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46FA-3951-4C85-93A5-0B2130CF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4880" y="1294920"/>
            <a:ext cx="7264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732C-6DE1-4B40-A919-0E7C00ED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726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9538-ABB8-4E99-AC80-A5D69623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4B98-E29F-4A22-BDAA-22EFE7E1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AD1E-576C-423C-B24A-38957ACF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4880" y="152280"/>
            <a:ext cx="7264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1EBB-126C-47FB-979C-48900067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4880" y="38023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672D-D9A0-48BC-8395-744DF7D9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880" y="1294920"/>
            <a:ext cx="7264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DD7-F931-47CE-BF77-F3D9AC53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87280" y="38023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E5EE-5437-4EBC-8E47-43C39CB8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4880" y="3802320"/>
            <a:ext cx="72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FD77-A601-44C5-9C8F-7E30CC0E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72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4880" y="3802320"/>
            <a:ext cx="72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EF40-619A-4DC9-9721-C3942768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880" y="38023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87280" y="38023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5082-93D9-4D05-82F0-A4DE2BA8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21160" y="12949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77440" y="12949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4880" y="38023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21160" y="38023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77440" y="3802320"/>
            <a:ext cx="233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8ED8-E0D3-47D6-9B21-2A4579D6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726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6D8-CD70-41E4-8FD9-6F73A3C2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910-175F-494B-A0E5-A14BB101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6B72-6395-4820-B43E-CE8A83E5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880" y="152280"/>
            <a:ext cx="7264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87A-7BA2-4D9E-B958-EAE6E40A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880" y="38023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370-9AE7-4F91-93A9-B00D2198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87280" y="38023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213-79CB-485A-B4B0-6173CE0F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8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87280" y="1294920"/>
            <a:ext cx="3544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880" y="3802320"/>
            <a:ext cx="72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D1C-1CA6-444E-9123-E1FD8736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880" y="1294920"/>
            <a:ext cx="726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1" marL="720720" indent="-277200">
              <a:spcBef>
                <a:spcPts val="799"/>
              </a:spcBef>
              <a:buClr>
                <a:srgbClr val="336699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2" marL="1108440" indent="-221400">
              <a:spcBef>
                <a:spcPts val="799"/>
              </a:spcBef>
              <a:buClr>
                <a:srgbClr val="336699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3" marL="1551960" indent="-221400">
              <a:spcBef>
                <a:spcPts val="799"/>
              </a:spcBef>
              <a:buClr>
                <a:srgbClr val="336699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4" marL="1995480" indent="-221400">
              <a:spcBef>
                <a:spcPts val="799"/>
              </a:spcBef>
              <a:buClr>
                <a:srgbClr val="336699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5" marL="1995480" indent="-221400">
              <a:spcBef>
                <a:spcPts val="799"/>
              </a:spcBef>
              <a:buClr>
                <a:srgbClr val="5a4b3c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6" marL="1995480" indent="-221400">
              <a:spcBef>
                <a:spcPts val="799"/>
              </a:spcBef>
              <a:buClr>
                <a:srgbClr val="5a4b3c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7320" y="6248520"/>
            <a:ext cx="156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a4b3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28760" y="6248520"/>
            <a:ext cx="330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a4b3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60800" y="6248520"/>
            <a:ext cx="156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3669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227E-5A55-4236-98D2-4363F70B4EC6}" type="slidenum">
              <a:rPr b="0" lang="zh-CN" sz="1200" spc="-1" strike="noStrike">
                <a:solidFill>
                  <a:srgbClr val="33669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880" y="152280"/>
            <a:ext cx="7264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4880" y="1294920"/>
            <a:ext cx="7264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1" marL="720720" indent="-277200">
              <a:spcBef>
                <a:spcPts val="799"/>
              </a:spcBef>
              <a:buClr>
                <a:srgbClr val="336699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2" marL="1108440" indent="-221400">
              <a:spcBef>
                <a:spcPts val="799"/>
              </a:spcBef>
              <a:buClr>
                <a:srgbClr val="336699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3" marL="1551960" indent="-221400">
              <a:spcBef>
                <a:spcPts val="799"/>
              </a:spcBef>
              <a:buClr>
                <a:srgbClr val="336699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4" marL="1995480" indent="-221400">
              <a:spcBef>
                <a:spcPts val="799"/>
              </a:spcBef>
              <a:buClr>
                <a:srgbClr val="336699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5" marL="1995480" indent="-221400">
              <a:spcBef>
                <a:spcPts val="799"/>
              </a:spcBef>
              <a:buClr>
                <a:srgbClr val="5a4b3c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  <a:p>
            <a:pPr lvl="6" marL="1995480" indent="-221400">
              <a:spcBef>
                <a:spcPts val="799"/>
              </a:spcBef>
              <a:buClr>
                <a:srgbClr val="5a4b3c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幼圆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幼圆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73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a4b3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58520" y="6248520"/>
            <a:ext cx="4705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a4b3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94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5a4b3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5401-0439-49BB-B99C-FCAB07CF8B11}" type="slidenum">
              <a:rPr b="1" lang="zh-CN" sz="1200" spc="-1" strike="noStrike">
                <a:solidFill>
                  <a:srgbClr val="5a4b3c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680" y="1089000"/>
            <a:ext cx="6438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336699"/>
              </a:solidFill>
              <a:latin typeface="华文琥珀"/>
              <a:ea typeface="华文琥珀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7680" y="2743200"/>
            <a:ext cx="643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5a4b3c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03:38:58Z</dcterms:created>
  <dc:creator/>
  <dc:description/>
  <cp:keywords/>
  <dc:language>en-US</dc:language>
  <cp:lastModifiedBy>Quanquan</cp:lastModifiedBy>
  <dcterms:modified xsi:type="dcterms:W3CDTF">2011-09-13T07:44:25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42052</vt:lpwstr>
  </property>
</Properties>
</file>